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chimes.wav" ContentType="audio/x-wav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4F00-65A6-4B9E-B519-0FBA82F73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4753-6509-465F-AA54-F9E57A58D2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7F9A-E602-4111-8141-6855644A18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0717-A104-4166-8055-ABF9C66368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09F3-DB5C-468A-B344-22A125070D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7E9E-53FF-40B9-8B08-827EC51640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ECE-93D8-424E-967B-E27E4119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4A7-781D-416E-942E-C9614768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65B-F035-4550-91AC-D24920E5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BC7-5246-45CF-AC5E-8DBB64B8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296E-8DE3-49BF-B527-A76A7B44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9978-D093-481C-943F-3611A6B0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7F2B-57C5-4C82-9DF1-17666056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3AD4-A79C-475B-90D5-3463BBE2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9427-A62D-42A5-AF80-55FA8124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4551-DD7D-486B-8501-E7045721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B9A9-6417-4A8C-BB00-47D138B3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403-C935-4B0C-83E5-6E833124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4ACA-7920-4D77-A604-90C30657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088D-1D92-4DD8-93E8-76A9020E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6438-1F73-438E-8423-AF3C17AC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C071-5B66-40BF-9902-1C72A033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B113-7DA5-4849-81E4-1C1BFBB0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684-BDD8-45C5-974D-02484CC1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AF7-4550-496B-86F9-36C1E4E8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89BE-2B1B-40DA-AFE6-6343E0D5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45A-621F-41B3-86C1-54233E31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2BC-EC3D-4793-9EAB-968E2FA8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F53C-97DF-4F0B-9E26-66798DF5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3E1-F8E5-48C0-AB07-775627FB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0F51-CD41-4570-B93D-6EECB4AD8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423D-74BE-4BEB-9EC5-1184CAB02E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NORTH KOREA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AY SILENT 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419112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In North Korea, Kim Jong Il was better known as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Great Leader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ear Lea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ivine Leader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Benevolent 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4479840" y="-228600"/>
            <a:ext cx="47880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185400"/>
            <a:ext cx="853452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Due to its extreme isolation from the rest of the world, North Korea is known as th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hermit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ropaganda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eaceful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rosperous kingd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525240"/>
            <a:ext cx="853452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The line that separates North and South Korea is known a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37</a:t>
            </a:r>
            <a:r>
              <a:rPr b="1" lang="en-US" sz="4000" spc="-1" strike="noStrike" baseline="30000">
                <a:solidFill>
                  <a:srgbClr val="363636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Parall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TMZ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38</a:t>
            </a:r>
            <a:r>
              <a:rPr b="1" lang="en-US" sz="4000" spc="-1" strike="noStrike" baseline="30000">
                <a:solidFill>
                  <a:srgbClr val="363636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Parall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Chuche’ L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419112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In North Korea, Kim Il Sung was better known as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Great Leader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ear Lea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Divine Leader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Benevolent 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4343400" y="152280"/>
            <a:ext cx="493236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525240"/>
            <a:ext cx="853452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is prominently displayed in </a:t>
            </a:r>
            <a:r>
              <a:rPr b="0" i="1" lang="en-US" sz="4400" spc="-1" strike="noStrike" u="sng">
                <a:solidFill>
                  <a:srgbClr val="000066"/>
                </a:solidFill>
                <a:uFillTx/>
                <a:latin typeface="Arial Black"/>
              </a:rPr>
              <a:t>every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North Korean hom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Anti-American Pi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35480" indent="-73548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Kim Jong Il’s Pain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35480" indent="-73548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The Communist Manifes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35480" indent="-735480">
              <a:spcBef>
                <a:spcPts val="1001"/>
              </a:spcBef>
              <a:buClr>
                <a:srgbClr val="363636"/>
              </a:buClr>
              <a:buSzPct val="8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63636"/>
                </a:solidFill>
                <a:latin typeface="Arial"/>
              </a:rPr>
              <a:t>Pictures of the Great &amp; Dear Lead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11T14:26:04Z</dcterms:modified>
  <cp:revision>133</cp:revision>
  <dc:subject/>
  <dc:title>D/O: TO EXPLAIN AND IDENTIFY PROBLEMS OF ECONOMICS</dc:title>
</cp:coreProperties>
</file>